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820-1AE4-431E-9A49-A6EBD044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4EF-B5B6-46E5-B7DB-576AF41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41C-0F37-4249-B418-35D2F6D7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C35-0B36-4E5E-8ADB-C7F3A1E8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044-AB5F-4CF3-A369-60CB1828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38C-23D1-4073-906D-BDE0227C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BC0-A464-4C57-98F7-1A63267A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1FA-1E15-4E2C-9C19-05EC613B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E04-39F9-4E9B-8045-1D364AE1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F75-736B-48D0-8C0A-82F8234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FBE-AA04-4DD5-93B0-2B5244E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AA0-0748-487F-A504-A317ABE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C6E-B4C3-431A-B66F-0F8B8B634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umaya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Chapp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</a:rPr>
              <a:t>Monkey’s are awesom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’m going to have my topic on monkey’s. I hope you like monkey’s, because that’s the only thing I’m going to talk ab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keys are awesome! Monkeys are my favorite animal. They are very funny, playful,  and human like. Monkey’s are one of the most smartest animals (besides human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mazing animal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THEM!!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29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48Z</dcterms:modified>
  <cp:revision>6</cp:revision>
  <dc:subject/>
  <dc:title>Monkeys</dc:title>
</cp:coreProperties>
</file>